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DCA-B9C8-4BAF-8C9E-7E6F3A6E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39C-4144-4852-B4FA-0CAACFE9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78A-95A0-498D-9BD6-61853195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165-51EC-47E6-B21D-B89BFADC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1A3-121E-43F4-B2B6-6D3B15C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E79-8D21-4334-8A89-AFD027CB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0FC-E735-4E60-9C25-002EEF99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D43-32A4-418A-A2E7-3C2FA48F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6B9-1320-432F-9547-7E86AEB4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79A-1F1F-4238-A221-0FE374A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CC1-F746-4EB7-9727-0DA3F72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41C-10BE-41B2-81C0-21AF1405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E505-6D28-49CF-A9EA-6388CA45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79280" y="1222200"/>
            <a:ext cx="8702640" cy="4839120"/>
            <a:chOff x="179280" y="1222200"/>
            <a:chExt cx="8702640" cy="4839120"/>
          </a:xfrm>
        </p:grpSpPr>
        <p:sp>
          <p:nvSpPr>
            <p:cNvPr id="44" name=""/>
            <p:cNvSpPr/>
            <p:nvPr/>
          </p:nvSpPr>
          <p:spPr>
            <a:xfrm>
              <a:off x="4203720" y="5075640"/>
              <a:ext cx="1597320" cy="9856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81680" y="3517920"/>
              <a:ext cx="182556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L/CDB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50720" y="1897200"/>
              <a:ext cx="1825560" cy="68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l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99880" y="1897200"/>
              <a:ext cx="228204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DB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" name=""/>
            <p:cNvCxnSpPr>
              <a:stCxn id="45" idx="2"/>
              <a:endCxn id="44" idx="0"/>
            </p:cNvCxnSpPr>
            <p:nvPr/>
          </p:nvCxnSpPr>
          <p:spPr>
            <a:xfrm>
              <a:off x="4994280" y="4434480"/>
              <a:ext cx="7920" cy="95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" name=""/>
            <p:cNvCxnSpPr>
              <a:stCxn id="46" idx="2"/>
              <a:endCxn id="45" idx="0"/>
            </p:cNvCxnSpPr>
            <p:nvPr/>
          </p:nvCxnSpPr>
          <p:spPr>
            <a:xfrm>
              <a:off x="2263320" y="2581200"/>
              <a:ext cx="2731320" cy="9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0" name=""/>
            <p:cNvCxnSpPr>
              <a:stCxn id="47" idx="2"/>
              <a:endCxn id="45" idx="0"/>
            </p:cNvCxnSpPr>
            <p:nvPr/>
          </p:nvCxnSpPr>
          <p:spPr>
            <a:xfrm flipH="1">
              <a:off x="4993920" y="2811600"/>
              <a:ext cx="2747160" cy="70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 flipH="1">
              <a:off x="408600" y="4667040"/>
              <a:ext cx="826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88360" y="3291840"/>
              <a:ext cx="826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9280" y="1222200"/>
              <a:ext cx="321336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– Database cl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9280" y="3288600"/>
              <a:ext cx="41324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– Database Access Layer (D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9280" y="4667040"/>
              <a:ext cx="41324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– Database eng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99320" y="2370960"/>
              <a:ext cx="22960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-writ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.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92640" y="2370960"/>
              <a:ext cx="1836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-on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0:53:13Z</dcterms:created>
  <dc:creator>Any Licensed User</dc:creator>
  <dc:description/>
  <dc:language>en-US</dc:language>
  <cp:lastModifiedBy>Any Licensed User</cp:lastModifiedBy>
  <dcterms:modified xsi:type="dcterms:W3CDTF">2002-11-18T10:59:20Z</dcterms:modified>
  <cp:revision>1</cp:revision>
  <dc:subject/>
  <dc:title>Slide 1</dc:title>
</cp:coreProperties>
</file>